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0.wmf" ContentType="image/x-wmf"/>
  <Override PartName="/ppt/media/image28.png" ContentType="image/png"/>
  <Override PartName="/ppt/media/image49.wmf" ContentType="image/x-wmf"/>
  <Override PartName="/ppt/media/image11.png" ContentType="image/png"/>
  <Override PartName="/ppt/media/image10.wmf" ContentType="image/x-wmf"/>
  <Override PartName="/ppt/media/image47.wmf" ContentType="image/x-wmf"/>
  <Override PartName="/ppt/media/image25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57.wmf" ContentType="image/x-wmf"/>
  <Override PartName="/ppt/media/image51.wmf" ContentType="image/x-wmf"/>
  <Override PartName="/ppt/media/image29.png" ContentType="image/png"/>
  <Override PartName="/ppt/media/image2.wmf" ContentType="image/x-wmf"/>
  <Override PartName="/ppt/media/image31.png" ContentType="image/png"/>
  <Override PartName="/ppt/media/image62.wmf" ContentType="image/x-wmf"/>
  <Override PartName="/ppt/media/image22.png" ContentType="image/png"/>
  <Override PartName="/ppt/media/image4.wmf" ContentType="image/x-wmf"/>
  <Override PartName="/ppt/media/image59.png" ContentType="image/png"/>
  <Override PartName="/ppt/media/image16.png" ContentType="image/png"/>
  <Override PartName="/ppt/media/image56.wmf" ContentType="image/x-wmf"/>
  <Override PartName="/ppt/media/image27.png" ContentType="image/png"/>
  <Override PartName="/ppt/media/image15.png" ContentType="image/png"/>
  <Override PartName="/ppt/media/image55.wmf" ContentType="image/x-wmf"/>
  <Override PartName="/ppt/media/image26.png" ContentType="image/png"/>
  <Override PartName="/ppt/media/image3.wmf" ContentType="image/x-wmf"/>
  <Override PartName="/ppt/media/image58.png" ContentType="image/png"/>
  <Override PartName="/ppt/media/image21.png" ContentType="image/png"/>
  <Override PartName="/ppt/media/image23.png" ContentType="image/png"/>
  <Override PartName="/ppt/media/image36.png" ContentType="image/png"/>
  <Override PartName="/ppt/media/image20.png" ContentType="image/png"/>
  <Override PartName="/ppt/media/image24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8.png" ContentType="image/png"/>
  <Override PartName="/ppt/media/image12.png" ContentType="image/png"/>
  <Override PartName="/ppt/media/image52.wmf" ContentType="image/x-wmf"/>
  <Override PartName="/ppt/media/image8.png" ContentType="image/png"/>
  <Override PartName="/ppt/media/image60.wmf" ContentType="image/x-wmf"/>
  <Override PartName="/ppt/media/image38.png" ContentType="image/png"/>
  <Override PartName="/ppt/media/image7.png" ContentType="image/png"/>
  <Override PartName="/ppt/media/image41.wmf" ContentType="image/x-wmf"/>
  <Override PartName="/ppt/media/image19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14.png" ContentType="image/png"/>
  <Override PartName="/ppt/media/image54.wmf" ContentType="image/x-wmf"/>
  <Override PartName="/ppt/media/image9.wmf" ContentType="image/x-wmf"/>
  <Override PartName="/ppt/media/image30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61.wmf" ContentType="image/x-wmf"/>
  <Override PartName="/ppt/media/image39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0808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860C-C5D5-4038-A9E0-79F709BFC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E7B344-E572-48FF-991A-27FCF7FC4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5824F6-9369-462A-86AA-F61151FEC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066996-F1C9-49E4-8E79-4BD8B5B05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05DA-5453-4BD0-8592-1C7CB3954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BA92D4-1FED-4A38-8660-B86786BD9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8CD11A-7F43-454B-B273-DAADE1EC1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DFEBC9-39C5-46B5-A4A4-D83A36985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7BB71F-8FA2-45B9-BE2A-0B3A69D93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E33628-320B-4D71-BE84-1C08350BB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6D8D8A-02D3-49E3-A45A-ED3775444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368653-5CEB-4697-ABC8-4F497AB7E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70FE1A-A8C1-4480-8FBE-276FE21B1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09C332-8A28-4BE9-8CAE-B5C76084E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5FD4EB-9ED8-4CDC-9115-B72396642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3BE2EC-1ECE-4951-B078-68D167B9A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6A2153-DB7E-4DCA-BE66-257F2832A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7D38F2-DBE7-4097-BA8D-CC34647C2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073373-BAF9-4393-8275-60A98B09A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C3ADF7-FEC6-4167-8FB4-7544D9007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059F5F-A9C9-40DC-A895-2BF931E55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D7E917-C2F4-4A91-8552-3AC85D026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E77755-6456-4717-82C8-9C533EDCD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1879-1F0D-431E-B0D7-4EAD5E176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1C1923-082E-4A36-802D-B78E8EC76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646B82-FB2C-4279-8CAC-4528FF6D5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99E999-E1AC-473A-929B-7AAE4CADC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DD7F39-E495-4E91-93E1-D408E07E1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2D28AF-01A6-4ED2-A206-0FD0D202B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867B6A-AA14-4816-8A7C-209E8C601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DDB5A3-CAC9-4BE7-9CA0-B6400B938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5FD1CC-8E70-4E26-B95D-89C8D8595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C23C74-BBEB-4994-BD77-388445CBB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95F7-8CFD-48D6-84CF-7FCF5B71B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0E7485-E02C-4E0A-B476-A80E7708B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53FC-C28B-43B5-A83A-8049A7D55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BFAB-6A75-4CE3-87A4-A7E77DC47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BA8A27-8E36-4A32-88D6-9E36AFECA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CEA8AF-B114-465D-AEA4-BCDD7D4D5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1DAA-DA5B-4647-93F9-9D7BB9B6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939-5AE8-4FF1-963C-5A0E69D5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2C3-A4F7-4284-9680-9422E5F5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BAC-7B58-4F74-9975-FA6C6AD8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3EE6C-E2F9-45F4-815A-8FD1E78967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43984-4EE6-4368-AFDB-B924ECFE40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ADD68-5F84-4E96-9954-87C9F82D75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8309A-FFE2-4E28-98E2-2871C40087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06634-DFEF-48B2-A87F-A40D06B660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ADEA8-6029-4559-837E-2908BA6317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90841-1328-4C01-8DD9-2DAB7CD3D4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BBF-8F19-4146-9D9E-C2872F3B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CA805-1540-4D91-9D30-7E60E2BF8C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3B9A4-90D9-43FC-AB3A-9325CD04BC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A50E0-F7D5-4267-98FB-28DA8C8C86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64B67-2D25-48C7-A9D0-908F2293A9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8B3A2-1552-4D2D-A6DA-E5967722B1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891-DAC9-4146-970A-57AFDC69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DA74-DD57-404E-BB79-33E0B7CD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E3B-B0A6-40E2-B4B6-252E5905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271-B5EC-45F4-A229-B305D052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5EA-88CF-4206-90C8-06A9F27A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3EE5-C85F-4077-874C-9E993B82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950-3652-4874-B686-DB6D649E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7607-A997-4372-A701-17B54C2605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A881-9C09-4341-8EB2-CB88C0C371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7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Forward Kinema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E8A3-B050-4386-BC12-0F10E5FBB3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ur paramet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length, 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twist ,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offset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joint ang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trix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function of only a single variabl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t turns out that three of the above four quantities are constant for a given link, while the fourth parameter is the joint vari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5D23-BCFD-4BD9-9B7D-1AFF050C06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the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oint, a joint variable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ociated w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joints are represented by the z-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joint is revolute, the z-axis is in the direction of rotation as followed by the right hand ru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joint is prismatic, the z-axis for the joint is along the direction of the liner mov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2CC1-2A7C-47ED-9C22-BD99221794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498492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ombine all transformations, from the first joint (base) to the next until we get to the last joint, to get the robot’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otal transformation matri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From     , the position and orientation of the tool frame are calcul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70F3-609C-4B76-9C8D-F22DE67FFA3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8"/>
          <p:cNvGraphicFramePr/>
          <p:nvPr/>
        </p:nvGraphicFramePr>
        <p:xfrm>
          <a:off x="1676520" y="3657600"/>
          <a:ext cx="30765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657600"/>
                    <a:ext cx="30765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1676520" y="4518000"/>
          <a:ext cx="38088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518000"/>
                    <a:ext cx="380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5FFA-388D-4029-9A55-B0F3D507D7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C:\Documents and Settings\Administrator\Desktop\untitled.bmp"/>
          <p:cNvPicPr/>
          <p:nvPr/>
        </p:nvPicPr>
        <p:blipFill>
          <a:blip r:embed="rId1"/>
          <a:stretch/>
        </p:blipFill>
        <p:spPr>
          <a:xfrm>
            <a:off x="457200" y="1514520"/>
            <a:ext cx="8448840" cy="5343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41F9-05CD-4F39-8E74-A9839107094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871056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8BE6-4F71-408F-902B-5836AC2470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Documents and Settings\Administrator\Desktop\untitled.bmp"/>
          <p:cNvPicPr/>
          <p:nvPr/>
        </p:nvPicPr>
        <p:blipFill>
          <a:blip r:embed="rId2"/>
          <a:stretch/>
        </p:blipFill>
        <p:spPr>
          <a:xfrm>
            <a:off x="304920" y="1523880"/>
            <a:ext cx="86295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3125-1C8F-42EE-8E87-B745A79107F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08668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9"/>
          <p:cNvGraphicFramePr/>
          <p:nvPr/>
        </p:nvGraphicFramePr>
        <p:xfrm>
          <a:off x="2133720" y="2895480"/>
          <a:ext cx="414468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895480"/>
                    <a:ext cx="4144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380880" y="4952880"/>
            <a:ext cx="813456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5"/>
          <a:stretch/>
        </p:blipFill>
        <p:spPr>
          <a:xfrm>
            <a:off x="457200" y="1295280"/>
            <a:ext cx="830592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wo links a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E492-992C-4105-8429-3695A30D3B9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9"/>
          <p:cNvSpPr/>
          <p:nvPr/>
        </p:nvSpPr>
        <p:spPr>
          <a:xfrm>
            <a:off x="838080" y="1925640"/>
            <a:ext cx="4419720" cy="10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frame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Z ‘s are normal to th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9" descr=""/>
          <p:cNvPicPr/>
          <p:nvPr/>
        </p:nvPicPr>
        <p:blipFill>
          <a:blip r:embed="rId1"/>
          <a:stretch/>
        </p:blipFill>
        <p:spPr>
          <a:xfrm>
            <a:off x="4645080" y="1447920"/>
            <a:ext cx="4498920" cy="3733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0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30672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wo links a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EE66-A488-46EB-9396-80705B8EE76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4219560" cy="2657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5829120" cy="1809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3"/>
          <a:stretch/>
        </p:blipFill>
        <p:spPr>
          <a:xfrm>
            <a:off x="6400800" y="2666880"/>
            <a:ext cx="1314360" cy="352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4"/>
          <a:stretch/>
        </p:blipFill>
        <p:spPr>
          <a:xfrm>
            <a:off x="7620120" y="2666880"/>
            <a:ext cx="6667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5105520" y="22860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 (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denoted by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2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09A2-4FD9-4C38-B2C5-131421AAD9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6381720" cy="4424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0" y="4038480"/>
            <a:ext cx="3886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ema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rward (direct)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: The values of the joint vari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d: The position and the orientation of the end eff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: The position and the orientation of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: The values of the joint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6176-4E5B-4649-AE74-D4671C6DBE8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91ED-387C-4B2F-A08B-275AE3F65D2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1752480"/>
            <a:ext cx="3143160" cy="3962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3200400" y="3276720"/>
            <a:ext cx="57150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99FD-64C9-4F1C-992C-1356585FB45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14860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EF13-01C6-441B-A427-C696B7F4576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71880" cy="4905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4387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631B-4F4F-4834-BA01-C42769E0C3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33717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8B18-04E2-4F83-9006-CC6493CCFB8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100240" y="2728800"/>
            <a:ext cx="49435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4866-9AB9-4FC8-AE39-EB81FF779B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371600" y="2263680"/>
            <a:ext cx="556272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E8EC-965C-4AB0-BEF7-6FA5118C7E2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4105440" cy="3284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36097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34480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61E3-59C1-4702-A10D-E64FA0D3C07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581200" y="1849320"/>
            <a:ext cx="39816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2E14-DADC-45AC-B060-1AC49B13C9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848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0949-1E57-4AFA-9B52-05177EA47EA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1060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DH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homogeneous transformation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lating the tool frame to the fixed base fr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07BF-C63A-431A-8767-825216FA3A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36766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5F46-D0F4-434E-9C50-4A70C328CC5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3502080" cy="8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Object 5"/>
          <p:cNvGraphicFramePr/>
          <p:nvPr/>
        </p:nvGraphicFramePr>
        <p:xfrm>
          <a:off x="819000" y="3886200"/>
          <a:ext cx="62892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9000" y="3886200"/>
                    <a:ext cx="628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5524560" y="3962520"/>
          <a:ext cx="49536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24560" y="3962520"/>
                    <a:ext cx="495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by example 2, and        given by example  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1E83-CDB7-417C-BB37-FB2D11D3039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458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105D-88F2-4592-A4E2-3C364E6273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2063880" y="1676520"/>
            <a:ext cx="4432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1A32-C0BE-48AD-A48E-27A16E4D5D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ward kinematic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The position of the end-effector: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he orientation {Roll, Pitch, Yaw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3" name="Object 8"/>
          <p:cNvGraphicFramePr/>
          <p:nvPr/>
        </p:nvGraphicFramePr>
        <p:xfrm>
          <a:off x="1332000" y="3886200"/>
          <a:ext cx="537372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886200"/>
                    <a:ext cx="53737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l Pitch Y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9"/>
          <p:cNvGrpSpPr/>
          <p:nvPr/>
        </p:nvGrpSpPr>
        <p:grpSpPr>
          <a:xfrm>
            <a:off x="4801320" y="2048040"/>
            <a:ext cx="4035600" cy="3517200"/>
            <a:chOff x="4801320" y="2048040"/>
            <a:chExt cx="4035600" cy="3517200"/>
          </a:xfrm>
        </p:grpSpPr>
        <p:grpSp>
          <p:nvGrpSpPr>
            <p:cNvPr id="239" name="Group 4"/>
            <p:cNvGrpSpPr/>
            <p:nvPr/>
          </p:nvGrpSpPr>
          <p:grpSpPr>
            <a:xfrm>
              <a:off x="5332320" y="2527200"/>
              <a:ext cx="3200400" cy="2743200"/>
              <a:chOff x="5332320" y="2527200"/>
              <a:chExt cx="3200400" cy="2743200"/>
            </a:xfrm>
          </p:grpSpPr>
          <p:sp>
            <p:nvSpPr>
              <p:cNvPr id="240" name="Line 5"/>
              <p:cNvSpPr/>
              <p:nvPr/>
            </p:nvSpPr>
            <p:spPr>
              <a:xfrm flipV="1">
                <a:off x="6703920" y="252720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6"/>
              <p:cNvSpPr/>
              <p:nvPr/>
            </p:nvSpPr>
            <p:spPr>
              <a:xfrm flipH="1">
                <a:off x="5332320" y="435600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6703920" y="435600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8"/>
              <p:cNvSpPr/>
              <p:nvPr/>
            </p:nvSpPr>
            <p:spPr>
              <a:xfrm>
                <a:off x="6399000" y="306072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"/>
              <p:cNvSpPr/>
              <p:nvPr/>
            </p:nvSpPr>
            <p:spPr>
              <a:xfrm rot="16336800">
                <a:off x="5724360" y="466164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0"/>
              <p:cNvSpPr/>
              <p:nvPr/>
            </p:nvSpPr>
            <p:spPr>
              <a:xfrm rot="5753400">
                <a:off x="7395840" y="418140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Text Box 11"/>
            <p:cNvSpPr/>
            <p:nvPr/>
          </p:nvSpPr>
          <p:spPr>
            <a:xfrm>
              <a:off x="4801320" y="510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2"/>
            <p:cNvSpPr/>
            <p:nvPr/>
          </p:nvSpPr>
          <p:spPr>
            <a:xfrm>
              <a:off x="8436600" y="411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"/>
            <p:cNvSpPr/>
            <p:nvPr/>
          </p:nvSpPr>
          <p:spPr>
            <a:xfrm>
              <a:off x="6442200" y="2048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9" name="Object 1024"/>
            <p:cNvGraphicFramePr/>
            <p:nvPr/>
          </p:nvGraphicFramePr>
          <p:xfrm>
            <a:off x="5402160" y="4324680"/>
            <a:ext cx="380880" cy="41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" name="Object 10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02160" y="4324680"/>
                      <a:ext cx="38088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51" name="Object 1025"/>
                <p:cNvSpPr txBox="1"/>
                <p:nvPr/>
              </p:nvSpPr>
              <p:spPr>
                <a:xfrm>
                  <a:off x="7916760" y="454212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2" name="Object 1026"/>
                <p:cNvSpPr txBox="1"/>
                <p:nvPr/>
              </p:nvSpPr>
              <p:spPr>
                <a:xfrm>
                  <a:off x="6870600" y="2557440"/>
                  <a:ext cx="41400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53" name="Object 15"/>
          <p:cNvGraphicFramePr/>
          <p:nvPr/>
        </p:nvGraphicFramePr>
        <p:xfrm>
          <a:off x="457200" y="2514600"/>
          <a:ext cx="5257800" cy="14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514600"/>
                    <a:ext cx="52578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54F78D-7307-4B19-9615-AC96B56C24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16"/>
          <p:cNvGraphicFramePr/>
          <p:nvPr/>
        </p:nvGraphicFramePr>
        <p:xfrm>
          <a:off x="228600" y="4105440"/>
          <a:ext cx="4495680" cy="233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105440"/>
                    <a:ext cx="44956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FBA2-8671-4636-BB47-3C9804E3DD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calcul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the matrix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 wi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f the matri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1" name="Object 2"/>
          <p:cNvGraphicFramePr/>
          <p:nvPr/>
        </p:nvGraphicFramePr>
        <p:xfrm>
          <a:off x="4238640" y="1600200"/>
          <a:ext cx="193356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8640" y="1600200"/>
                    <a:ext cx="19335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3"/>
          <p:cNvGraphicFramePr/>
          <p:nvPr/>
        </p:nvGraphicFramePr>
        <p:xfrm>
          <a:off x="3048120" y="3429000"/>
          <a:ext cx="4762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429000"/>
                    <a:ext cx="4762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6"/>
          <p:cNvGraphicFramePr/>
          <p:nvPr/>
        </p:nvGraphicFramePr>
        <p:xfrm>
          <a:off x="533520" y="4343400"/>
          <a:ext cx="586728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343400"/>
                    <a:ext cx="5867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5"/>
          <p:cNvGraphicFramePr/>
          <p:nvPr/>
        </p:nvGraphicFramePr>
        <p:xfrm>
          <a:off x="851040" y="5664240"/>
          <a:ext cx="13586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1040" y="5664240"/>
                    <a:ext cx="1358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6"/>
          <p:cNvGraphicFramePr/>
          <p:nvPr/>
        </p:nvGraphicFramePr>
        <p:xfrm>
          <a:off x="2514600" y="5638680"/>
          <a:ext cx="140796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5638680"/>
                    <a:ext cx="1407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7"/>
          <p:cNvGraphicFramePr/>
          <p:nvPr/>
        </p:nvGraphicFramePr>
        <p:xfrm>
          <a:off x="4184640" y="5638680"/>
          <a:ext cx="1454040" cy="476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84640" y="5638680"/>
                    <a:ext cx="14540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2"/>
          <p:cNvGraphicFramePr/>
          <p:nvPr/>
        </p:nvGraphicFramePr>
        <p:xfrm>
          <a:off x="1130400" y="6242040"/>
          <a:ext cx="1195200" cy="31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4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30400" y="6242040"/>
                    <a:ext cx="11952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3"/>
          <p:cNvGraphicFramePr/>
          <p:nvPr/>
        </p:nvGraphicFramePr>
        <p:xfrm>
          <a:off x="2590920" y="6095880"/>
          <a:ext cx="1295280" cy="542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6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6095880"/>
                    <a:ext cx="12952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4"/>
          <p:cNvGraphicFramePr/>
          <p:nvPr/>
        </p:nvGraphicFramePr>
        <p:xfrm>
          <a:off x="4114800" y="6019920"/>
          <a:ext cx="1549440" cy="676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8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14800" y="6019920"/>
                    <a:ext cx="154944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15"/>
          <p:cNvGraphicFramePr/>
          <p:nvPr/>
        </p:nvGraphicFramePr>
        <p:xfrm>
          <a:off x="5962680" y="2577960"/>
          <a:ext cx="1428840" cy="1155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0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62680" y="2577960"/>
                    <a:ext cx="142884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ule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RR:RR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3404-9038-4087-B144-C8E1E92659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457200" y="220968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447920" y="2286000"/>
          <a:ext cx="4952880" cy="2819520"/>
        </p:xfrm>
        <a:graphic>
          <a:graphicData uri="http://schemas.openxmlformats.org/drawingml/2006/table">
            <a:tbl>
              <a:tblPr/>
              <a:tblGrid>
                <a:gridCol w="1031760"/>
                <a:gridCol w="939960"/>
                <a:gridCol w="1131840"/>
                <a:gridCol w="812520"/>
                <a:gridCol w="1036800"/>
              </a:tblGrid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Spong book: page 1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2, 3.3, 3.4, 3.6 , 3.7, 3.8, 3.9, 3.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lass on next Tues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2D27-4AC2-4414-8330-BC3E67A418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352F-EA93-4211-B887-C97037C15F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009880" cy="1380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7" descr=""/>
          <p:cNvPicPr/>
          <p:nvPr/>
        </p:nvPicPr>
        <p:blipFill>
          <a:blip r:embed="rId2"/>
          <a:stretch/>
        </p:blipFill>
        <p:spPr>
          <a:xfrm>
            <a:off x="457200" y="1062000"/>
            <a:ext cx="7467480" cy="25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16"/>
          <p:cNvGraphicFramePr/>
          <p:nvPr/>
        </p:nvGraphicFramePr>
        <p:xfrm>
          <a:off x="1855800" y="4038480"/>
          <a:ext cx="2943360" cy="4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5800" y="4038480"/>
                    <a:ext cx="29433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Rectangle 3"/>
          <p:cNvSpPr/>
          <p:nvPr/>
        </p:nvSpPr>
        <p:spPr>
          <a:xfrm>
            <a:off x="457200" y="4038480"/>
            <a:ext cx="8305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                                    are  Roll, Pitch, and Y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present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orward kinema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kinema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9" name="Object 4"/>
          <p:cNvGraphicFramePr/>
          <p:nvPr/>
        </p:nvGraphicFramePr>
        <p:xfrm>
          <a:off x="927000" y="2347920"/>
          <a:ext cx="1987560" cy="33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347920"/>
                    <a:ext cx="198756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5"/>
          <p:cNvGraphicFramePr/>
          <p:nvPr/>
        </p:nvGraphicFramePr>
        <p:xfrm>
          <a:off x="4927680" y="2903400"/>
          <a:ext cx="3097080" cy="193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7680" y="2903400"/>
                    <a:ext cx="30970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Slide Number Placeholder 5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0E14-12E6-4F75-8921-6809E55FA5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800960" y="160020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DH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ery simple way of modeling robot links and joints that can be used for any kind of robot configu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echnique has became the standard way of representing robots and modeling their mo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946E-FC3E-4E00-8FBE-CCBA51B1CAB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s: we ha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+1 links. Link 0 is the 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oints are numbered from 1 to 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i connects link i − 1 to link 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 {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ttached to joi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+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fr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{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is attached to the robot base (inertial frame) “joint 1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7A82-E874-40F1-9917-1002D601A6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 a reference frame to each joi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-axis and z-axis). The D-H representation does not use the y-axis at 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homogeneous transformatio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represented as a product of four basic transform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0690-FB9B-41E2-937C-AB32E93483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C125-D393-4365-9FA8-DA23BFBAE4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rix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presenting the four movements is found by: four m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7"/>
          <p:cNvGraphicFramePr/>
          <p:nvPr/>
        </p:nvGraphicFramePr>
        <p:xfrm>
          <a:off x="1066680" y="3962520"/>
          <a:ext cx="548640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962520"/>
                    <a:ext cx="54864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9"/>
          <p:cNvGraphicFramePr/>
          <p:nvPr/>
        </p:nvGraphicFramePr>
        <p:xfrm>
          <a:off x="349200" y="2438280"/>
          <a:ext cx="503244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0" y="2438280"/>
                    <a:ext cx="503244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582B-FE5C-46DF-983F-35B943E33F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8"/>
          <p:cNvGraphicFramePr/>
          <p:nvPr/>
        </p:nvGraphicFramePr>
        <p:xfrm>
          <a:off x="1447920" y="4800600"/>
          <a:ext cx="4144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800600"/>
                    <a:ext cx="4144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685800" y="1447920"/>
                <a:ext cx="39304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4648320" y="1447920"/>
                <a:ext cx="406080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523880" y="1829880"/>
            <a:ext cx="6096240" cy="4064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762120" y="3048120"/>
                <a:ext cx="7048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nk and joint parameter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ink lengt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: the offset distance between the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nd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es along the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ink offset 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the distance from the origin of frame i−1 to the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ong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5E6F-77DE-4217-B09C-D681054AF14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71C3-0568-4FBC-8AB5-60FEC27A11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80880" y="1414440"/>
            <a:ext cx="3581640" cy="29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4191120" y="1600200"/>
            <a:ext cx="2334960" cy="2666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533520" y="4179960"/>
            <a:ext cx="815328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k tw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:the angle from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is to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xis about the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i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ve sense for α is determined from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right-hand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oint angle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angle between the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es about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23:28:20Z</dcterms:created>
  <dc:creator>A</dc:creator>
  <dc:description/>
  <dc:language>en-US</dc:language>
  <cp:lastModifiedBy>Ayssam</cp:lastModifiedBy>
  <dcterms:modified xsi:type="dcterms:W3CDTF">2009-09-15T01:45:51Z</dcterms:modified>
  <cp:revision>174</cp:revision>
  <dc:subject/>
  <dc:title>Robot Kinematics II </dc:title>
</cp:coreProperties>
</file>